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7FE-AEB4-4A27-9473-7098F5C8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8F1-A752-46CA-8F01-E3E84C0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7AF-46A3-4010-90C1-59368DEB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EAE-6CA1-48FF-BBA0-B3A4B5B3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EAD6-25F4-4351-BACF-EA9FF264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78E-0162-4C6F-8F85-EDB4510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CF0-9AA3-4462-AF85-E448AAA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3036-D117-4FC5-BE48-9E3D1609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28D5-9FAB-45AE-BF11-B9FCCE2C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1BC-A885-4856-90C8-7E9DD34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57AE-4295-4EC2-B57F-503244E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8BA-D343-4FA2-BB30-4FC3AAE5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224-353F-4C31-A54F-E121E56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F82-D67A-44C1-B36A-1F82C77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9AF3-4BFE-444F-9C9F-0DF08999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B661-49CB-450B-BADB-D3C81074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653-288C-4A93-9290-8DB975F6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051-78B1-44DC-9503-C8D404F0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113-1ADF-458F-8194-A94017C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3E2-5ED9-4F19-B2B3-2E144C6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AC2-F214-4742-BE0C-5827EEB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E80-8259-46C0-9027-96EBBE2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9A1-4F54-449C-BEF8-2A9492F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82F-A529-4CEF-8A47-AB8EE24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8936-3B24-4233-9ED7-99A903CFC9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E0E-7B33-45CA-B456-36C569914E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Денежная реформа 1654 -1663 годов проведена правительством царя Алексея Михайлович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895320" y="1620720"/>
            <a:ext cx="3305160" cy="491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9966"/>
                </a:solidFill>
                <a:latin typeface="Arial"/>
              </a:rPr>
              <a:t>Цель реформы:</a:t>
            </a: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 введение в денежное обращение монет крупных номиналов, внедрение меди в качестве монетного метала, начало чеканки рубля, ориентированного на западно - европейский ТАЛ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f7f7f"/>
                </a:solidFill>
                <a:latin typeface="Times New Roman"/>
              </a:rPr>
              <a:t>Последствия рефор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579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9966"/>
                </a:solidFill>
                <a:latin typeface="Arial"/>
              </a:rPr>
              <a:t>В 1654 г. в обращение введ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Серебряные рубли, изготовленные путем перечеканки тал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Полуполтины, из разрубленных на 4 части тал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Медные полтины, весом в тал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Алтины и гроши – 2 ко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rcRect l="0" t="65547" r="0" b="0"/>
          <a:stretch/>
        </p:blipFill>
        <p:spPr>
          <a:xfrm>
            <a:off x="755640" y="4668840"/>
            <a:ext cx="669600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3:41Z</dcterms:modified>
  <cp:revision>35</cp:revision>
  <dc:subject/>
  <dc:title>Денежные реформы России</dc:title>
</cp:coreProperties>
</file>